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3C7-6DB4-408B-868E-355F810F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9E9-693B-486A-B688-F70A517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D54-C908-4240-BE49-AD3ACC47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512-19FB-4AA8-9D6E-D05C8ABB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42A-07F5-4C85-88BD-03E1771A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BE3-7000-4CD3-8653-0F687746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8C0-52DD-44D3-97B8-CB239A5A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336-6FBE-4AA5-9E95-DB8ECD5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2C3-787B-45B1-800E-A6B3A70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F14-0C29-42C8-9F84-2FC4C55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87F-A0AC-4333-AFD0-47A7C5C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8F0-C49C-4D04-964A-03B92C5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9FAB-C3FF-475B-8061-D8D72C482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71468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Старотойденского сель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Старотойденского сельского поселения в 2022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318780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065240"/>
                <a:gridCol w="1032120"/>
                <a:gridCol w="619200"/>
              </a:tblGrid>
              <a:tr h="50328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12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4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2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1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Старотойденского сельского поселения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420840" y="1279440"/>
            <a:ext cx="84978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9" descr=""/>
          <p:cNvPicPr/>
          <p:nvPr/>
        </p:nvPicPr>
        <p:blipFill>
          <a:blip r:embed="rId3"/>
          <a:stretch/>
        </p:blipFill>
        <p:spPr>
          <a:xfrm>
            <a:off x="1066680" y="3780000"/>
            <a:ext cx="71136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Старотойденского сельского поселения за 2022 год профицитный (доходы превысили расходы на 2640,1 тыс.руб.)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2г. составило – 85,7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Старотойден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РАСПОПОВ ВЛАДИМИР АЛЕКС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4734641257(847346412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ldtoyd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Старотойденского сельского поселения Аннинского муниципального района в 2022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Старотойденского сельского поселения за 202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05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29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 583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 607,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 122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 122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089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089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616,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640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7" descr=""/>
          <p:cNvPicPr/>
          <p:nvPr/>
        </p:nvPicPr>
        <p:blipFill>
          <a:blip r:embed="rId2"/>
          <a:stretch/>
        </p:blipFill>
        <p:spPr>
          <a:xfrm>
            <a:off x="1920960" y="3279600"/>
            <a:ext cx="5533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781200"/>
            <a:ext cx="895500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858160" cy="291456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1655640"/>
              </a:tblGrid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2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2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90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90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2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0"/>
          <p:cNvSpPr/>
          <p:nvPr/>
        </p:nvSpPr>
        <p:spPr>
          <a:xfrm>
            <a:off x="142920" y="14292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Старотойденского сельского поселения в 202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1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2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3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4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06-25T06:41:11Z</dcterms:modified>
  <cp:revision>81</cp:revision>
  <dc:subject/>
  <dc:title>Слайд 1</dc:title>
</cp:coreProperties>
</file>