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649-B2D7-470B-9951-61938BBD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73B-2296-45EF-B0BD-CC51BA25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F3A-3118-4757-A7B1-EA461383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6C8-831D-4893-9078-D27A7A4B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141-F604-42B2-880C-F3FD2332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AE9-615F-422D-ADF1-1B702971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353-2082-42BA-89EB-53B8A095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001-36C9-4C8B-90D7-D01CF79F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A26-AFAD-4737-AF1E-69A8F921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0F3-19DF-4FBA-ADB4-9B654C91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C88-8DD4-4503-9598-C49CA6FE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EB9-A620-4CBC-BE77-AC21B352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9B50-EDBA-4A75-9B6B-451BC79042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mailto:oldtoyd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СТАРОТОЙДЕН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30480" y="16304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ТАРОТОЙДЕНСКОЕ СЕЛЬСКОЕ ПОСЕЛЕНИЕ,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 проекту решения Совета народных депутатов Старотойденского сельского поселения 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от </a:t>
            </a:r>
            <a:r>
              <a:rPr b="1" i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________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</a:t>
            </a:r>
            <a:r>
              <a:rPr b="1" i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__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г. 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Старотойденского сельского поселения на 202</a:t>
            </a:r>
            <a:r>
              <a:rPr b="1" i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год и на плановый период 202</a:t>
            </a:r>
            <a:r>
              <a:rPr b="1" i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и 202</a:t>
            </a:r>
            <a:r>
              <a:rPr b="1" i="1" lang="en-US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28880" y="928800"/>
          <a:ext cx="5194080" cy="2557440"/>
        </p:xfrm>
        <a:graphic>
          <a:graphicData uri="http://schemas.openxmlformats.org/drawingml/2006/table">
            <a:tbl>
              <a:tblPr/>
              <a:tblGrid>
                <a:gridCol w="609480"/>
                <a:gridCol w="3213000"/>
                <a:gridCol w="749520"/>
                <a:gridCol w="622080"/>
              </a:tblGrid>
              <a:tr h="380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73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00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6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76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91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135" name="Диаграмма 11" descr=""/>
          <p:cNvPicPr/>
          <p:nvPr/>
        </p:nvPicPr>
        <p:blipFill>
          <a:blip r:embed="rId2"/>
          <a:stretch/>
        </p:blipFill>
        <p:spPr>
          <a:xfrm>
            <a:off x="1279440" y="3706920"/>
            <a:ext cx="6443640" cy="24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Диаграмма 10" descr=""/>
          <p:cNvPicPr/>
          <p:nvPr/>
        </p:nvPicPr>
        <p:blipFill>
          <a:blip r:embed="rId3"/>
          <a:stretch/>
        </p:blipFill>
        <p:spPr>
          <a:xfrm>
            <a:off x="566640" y="4206960"/>
            <a:ext cx="8023320" cy="251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Старотойден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1200240"/>
            <a:ext cx="8899200" cy="24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1487520" y="4572000"/>
          <a:ext cx="5857920" cy="164304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512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0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1" name="TextBox 25"/>
          <p:cNvSpPr/>
          <p:nvPr/>
        </p:nvSpPr>
        <p:spPr>
          <a:xfrm>
            <a:off x="1463760" y="3571920"/>
            <a:ext cx="58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Старотойденского сельского_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Прямоугольник 4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9017280" cy="67312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42920" y="1071720"/>
            <a:ext cx="871524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Глава администрации Старотойденского сельского по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Аннинского муниципального района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РАСПОПОВ ВЛАДИМИР АЛЕКСЕЕ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График работы с 8-00 до 17-0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перерыв с 12-00 до 13-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Адрес:  Воронежская область, Аннинский район, село Старая Тойда, ул. Октябрьская, дом 13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Телефоны (факс) 84734641257(847346412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Электронная почта: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ldtoyd.anna@govvrn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6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76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3876840" cy="1908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8" descr="source.gif"/>
          <p:cNvPicPr/>
          <p:nvPr/>
        </p:nvPicPr>
        <p:blipFill>
          <a:blip r:embed="rId4"/>
          <a:stretch/>
        </p:blipFill>
        <p:spPr>
          <a:xfrm>
            <a:off x="588636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1071720" y="3643200"/>
            <a:ext cx="7000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Проект бюджета Старотойденского сельского поселения на 202</a:t>
            </a:r>
            <a:r>
              <a:rPr b="1" lang="en-US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4</a:t>
            </a: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год и на плановый период 202</a:t>
            </a:r>
            <a:r>
              <a:rPr b="1" lang="en-US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5</a:t>
            </a: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и 202</a:t>
            </a:r>
            <a:r>
              <a:rPr b="1" lang="en-US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6</a:t>
            </a: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годов сформирован в программном формате. Всего на данный момент в Старотойденском сельском поселении разработана и утверждена 1 муниципальная программа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8">
            <a:hlinkClick r:id="rId2" action="ppaction://hlinksldjump"/>
          </p:cNvPr>
          <p:cNvSpPr/>
          <p:nvPr/>
        </p:nvSpPr>
        <p:spPr>
          <a:xfrm>
            <a:off x="1143000" y="4572000"/>
            <a:ext cx="707220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витие Старотойденского сельского поселения и управление финансами в поселении</a:t>
            </a: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»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7" descr=""/>
          <p:cNvPicPr/>
          <p:nvPr/>
        </p:nvPicPr>
        <p:blipFill>
          <a:blip r:embed="rId3"/>
          <a:stretch/>
        </p:blipFill>
        <p:spPr>
          <a:xfrm>
            <a:off x="341280" y="828720"/>
            <a:ext cx="8521560" cy="2762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4"/>
          <p:cNvSpPr/>
          <p:nvPr/>
        </p:nvSpPr>
        <p:spPr>
          <a:xfrm>
            <a:off x="0" y="214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Старотойденского сельского поселения основыва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Старотойден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Диаграмма 7" descr=""/>
          <p:cNvPicPr/>
          <p:nvPr/>
        </p:nvPicPr>
        <p:blipFill>
          <a:blip r:embed="rId2"/>
          <a:stretch/>
        </p:blipFill>
        <p:spPr>
          <a:xfrm>
            <a:off x="420840" y="2779560"/>
            <a:ext cx="8302320" cy="3969000"/>
          </a:xfrm>
          <a:prstGeom prst="rect">
            <a:avLst/>
          </a:prstGeom>
          <a:ln w="0">
            <a:noFill/>
          </a:ln>
        </p:spPr>
      </p:pic>
      <p:sp>
        <p:nvSpPr>
          <p:cNvPr id="112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олилиния: фигура 7"/>
          <p:cNvSpPr/>
          <p:nvPr/>
        </p:nvSpPr>
        <p:spPr>
          <a:xfrm>
            <a:off x="2714760" y="5572080"/>
            <a:ext cx="17143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0040" y="934920"/>
          <a:ext cx="8215200" cy="127980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 БЮДЖ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ПРОЕ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5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73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91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5 73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49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5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05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91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5 63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 27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32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</a:t>
            </a:r>
            <a:r>
              <a:rPr b="1" lang="en-US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500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1214280" y="3786120"/>
          <a:ext cx="7143840" cy="2589120"/>
        </p:xfrm>
        <a:graphic>
          <a:graphicData uri="http://schemas.openxmlformats.org/drawingml/2006/table">
            <a:tbl>
              <a:tblPr/>
              <a:tblGrid>
                <a:gridCol w="2381400"/>
                <a:gridCol w="2476440"/>
                <a:gridCol w="2286000"/>
              </a:tblGrid>
              <a:tr h="1526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4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0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85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1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0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22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0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67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1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Диаграмма 8" descr=""/>
          <p:cNvPicPr/>
          <p:nvPr/>
        </p:nvPicPr>
        <p:blipFill>
          <a:blip r:embed="rId2"/>
          <a:stretch/>
        </p:blipFill>
        <p:spPr>
          <a:xfrm>
            <a:off x="506520" y="993600"/>
            <a:ext cx="8130960" cy="558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stToyda</cp:lastModifiedBy>
  <dcterms:modified xsi:type="dcterms:W3CDTF">2024-06-25T06:53:58Z</dcterms:modified>
  <cp:revision>60</cp:revision>
  <dc:subject/>
  <dc:title>Слайд 1</dc:title>
</cp:coreProperties>
</file>