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60F-1A99-4A5B-8A53-7ED923FB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143-D2EA-45FC-A61A-C74D3837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9F8-6C9D-45F5-92A2-DB94571E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1BA-A6F7-43BA-AF0F-8439A4B9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339-87DA-48C9-BBD1-020BC7B8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528-2E1C-4FF7-B679-6F451BF2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F73-9C5D-4521-8C88-17B4B299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327-EA0E-4275-BEB8-493D2F49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56D-16E4-4040-9965-91C45D69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D84-016A-4937-8F14-1C28DB6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9F3-474B-4717-B557-A8E754C7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174-5A23-44FC-B2F2-D9E8F4C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F139-8DCA-4DC8-A54B-991D72089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mailto:oldtoyd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ТОЙДЕН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ТОЙДЕНСКОЕ СЕЛЬ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проекту решения Совета народных депутатов Старотойденского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________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__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. 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Старотойденского сельского поселения на 2025 год и на плановый период 2026 и 2027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74960" y="2487600"/>
          <a:ext cx="5194080" cy="275256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609840"/>
                <a:gridCol w="76176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99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4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7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-146160" y="133200"/>
            <a:ext cx="9009000" cy="6731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28880" y="928800"/>
          <a:ext cx="5194080" cy="270324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749520"/>
                <a:gridCol w="62208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4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11" descr=""/>
          <p:cNvPicPr/>
          <p:nvPr/>
        </p:nvPicPr>
        <p:blipFill>
          <a:blip r:embed="rId2"/>
          <a:stretch/>
        </p:blipFill>
        <p:spPr>
          <a:xfrm>
            <a:off x="1352520" y="3352680"/>
            <a:ext cx="6438960" cy="29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10" descr=""/>
          <p:cNvPicPr/>
          <p:nvPr/>
        </p:nvPicPr>
        <p:blipFill>
          <a:blip r:embed="rId3"/>
          <a:stretch/>
        </p:blipFill>
        <p:spPr>
          <a:xfrm>
            <a:off x="566640" y="4206960"/>
            <a:ext cx="802332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Старотойден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20024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572000"/>
          <a:ext cx="5857920" cy="164304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51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Старотойденского сельского_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Глава администрации Старотойденского сельского по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ннинского муниципального района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РАСПОПОВ ВЛАДИМИР АЛЕКСЕ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График работы с 8-00 до 17-0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ерерыв с 12-00 до 13-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Адрес:  Воронежская область, Аннинский район, село Старая Тойда, ул. Октябрьская, дом 13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Телефоны (факс) 84734641257(847346412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Электронная почта: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ldtoyd.anna@govvrn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643200"/>
            <a:ext cx="700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Старотойденского сельского поселения на 2025 год и на плановый период 2026 и 2027 годов сформирован в программном формате. Всего на данный момент в Старотойденском сель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572000"/>
            <a:ext cx="70722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Старотойденского сельского поселения и управление финансами в поселении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»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Старотойден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Старотойден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0040" y="934920"/>
          <a:ext cx="8215200" cy="127980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7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46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3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84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44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68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3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72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18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2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6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7" name="Диаграмма 14" descr=""/>
          <p:cNvPicPr/>
          <p:nvPr/>
        </p:nvPicPr>
        <p:blipFill>
          <a:blip r:embed="rId2"/>
          <a:stretch/>
        </p:blipFill>
        <p:spPr>
          <a:xfrm>
            <a:off x="987480" y="2494080"/>
            <a:ext cx="7169040" cy="315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96840" y="281160"/>
            <a:ext cx="8955000" cy="32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285920" y="3429000"/>
          <a:ext cx="6572160" cy="314316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</a:tblGrid>
              <a:tr h="1540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5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3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09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3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4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4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3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3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77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9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6" descr=""/>
          <p:cNvPicPr/>
          <p:nvPr/>
        </p:nvPicPr>
        <p:blipFill>
          <a:blip r:embed="rId2"/>
          <a:stretch/>
        </p:blipFill>
        <p:spPr>
          <a:xfrm>
            <a:off x="506520" y="920880"/>
            <a:ext cx="8130960" cy="544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stToyda</cp:lastModifiedBy>
  <dcterms:modified xsi:type="dcterms:W3CDTF">2024-11-22T12:15:30Z</dcterms:modified>
  <cp:revision>70</cp:revision>
  <dc:subject/>
  <dc:title>Слайд 1</dc:title>
</cp:coreProperties>
</file>