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5CB-D095-4009-9D1F-FACF7B45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D74-4C3B-4109-A45B-362F632C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9D2-9FC7-4288-ABFA-E43CED81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7DC-CA23-4F52-8F53-1855C83E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C5F-1EF6-42A2-AAEB-B5C94EDD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533-BC0F-47CC-82CC-B4A074EB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438-30AD-4B20-A223-306E7691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480-0C1E-4268-BC6C-AA27347C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203-43D0-4C51-948C-F0C5857B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C12-53D7-4677-867B-4620E74A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637-8B3E-486A-97F9-62B28DAD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61A-FD5C-473D-B25A-9739862F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DE19-80C7-4A06-9BCD-4690BD1AF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mailto:oldtoyd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ТОЙДЕН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ТОЙДЕНСКОЕ СЕЛЬСКОЕ ПОСЕЛЕНИЕ, 202</a:t>
            </a:r>
            <a:r>
              <a:rPr b="1" lang="en-US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решению Совета народных депутатов Старотойден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</a:t>
            </a:r>
            <a:r>
              <a:rPr b="1" i="1" lang="ru-RU" sz="1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5.12.2024 г. №4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Старотойденского сельского поселения на 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д и на плановый период 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74960" y="2487600"/>
          <a:ext cx="5194080" cy="275256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609840"/>
                <a:gridCol w="76176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9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4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71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9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9015120" cy="6731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43040" y="857160"/>
          <a:ext cx="6929640" cy="2643120"/>
        </p:xfrm>
        <a:graphic>
          <a:graphicData uri="http://schemas.openxmlformats.org/drawingml/2006/table">
            <a:tbl>
              <a:tblPr/>
              <a:tblGrid>
                <a:gridCol w="1181160"/>
                <a:gridCol w="4029120"/>
                <a:gridCol w="763560"/>
                <a:gridCol w="955800"/>
              </a:tblGrid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84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4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4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9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2" descr=""/>
          <p:cNvPicPr/>
          <p:nvPr/>
        </p:nvPicPr>
        <p:blipFill>
          <a:blip r:embed="rId2"/>
          <a:stretch/>
        </p:blipFill>
        <p:spPr>
          <a:xfrm>
            <a:off x="1420920" y="3780000"/>
            <a:ext cx="7156440" cy="27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9" descr=""/>
          <p:cNvPicPr/>
          <p:nvPr/>
        </p:nvPicPr>
        <p:blipFill>
          <a:blip r:embed="rId3"/>
          <a:stretch/>
        </p:blipFill>
        <p:spPr>
          <a:xfrm>
            <a:off x="560520" y="4206960"/>
            <a:ext cx="802296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Старотойде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20024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572000"/>
          <a:ext cx="5857920" cy="164304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51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Старотойденского сельского_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лава администрации Старотойденского сельского по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ннинского муниципального район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РАСПОПОВ ВЛАДИМИР АЛЕКСЕ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График работы с 8-00 до 17-0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ерерыв с 12-00 до 13-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Адрес:  Воронежская область, Аннинский район, село Старая Тойда, ул. Октябрьская, дом 13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Телефоны (факс) 84734641257(847346412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Электронная почта: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ldtoyd.anna@govvr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643200"/>
            <a:ext cx="70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Бюджет Старотойденского сельского поселения на 2025 год и на плановый период 2026 и 2027 годов сформирован в программном формате. Всего на данный момент в Старотойден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Старотойденского сельского поселения и управление финансами в поселении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Старотойден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0040" y="1000080"/>
          <a:ext cx="7850160" cy="164304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70320"/>
                <a:gridCol w="1569960"/>
                <a:gridCol w="1569960"/>
              </a:tblGrid>
              <a:tr h="238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7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64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3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85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45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5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3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7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1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2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6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37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Старотойден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2960" y="1071720"/>
          <a:ext cx="8072280" cy="1714320"/>
        </p:xfrm>
        <a:graphic>
          <a:graphicData uri="http://schemas.openxmlformats.org/drawingml/2006/table">
            <a:tbl>
              <a:tblPr/>
              <a:tblGrid>
                <a:gridCol w="1614600"/>
                <a:gridCol w="1614240"/>
                <a:gridCol w="1614600"/>
                <a:gridCol w="1614600"/>
                <a:gridCol w="1614240"/>
              </a:tblGrid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97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6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3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85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45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84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 57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9 3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7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18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37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7" name="Диаграмма 16" descr=""/>
          <p:cNvPicPr/>
          <p:nvPr/>
        </p:nvPicPr>
        <p:blipFill>
          <a:blip r:embed="rId2"/>
          <a:stretch/>
        </p:blipFill>
        <p:spPr>
          <a:xfrm>
            <a:off x="633240" y="3425760"/>
            <a:ext cx="8089920" cy="222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357120" y="3786120"/>
          <a:ext cx="8286840" cy="275904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152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3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4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77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9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6" descr=""/>
          <p:cNvPicPr/>
          <p:nvPr/>
        </p:nvPicPr>
        <p:blipFill>
          <a:blip r:embed="rId2"/>
          <a:stretch/>
        </p:blipFill>
        <p:spPr>
          <a:xfrm>
            <a:off x="506520" y="1279440"/>
            <a:ext cx="8130960" cy="522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stToyda</cp:lastModifiedBy>
  <dcterms:modified xsi:type="dcterms:W3CDTF">2024-12-26T06:31:16Z</dcterms:modified>
  <cp:revision>63</cp:revision>
  <dc:subject/>
  <dc:title>Слайд 1</dc:title>
</cp:coreProperties>
</file>