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580-9CA0-46C2-8580-D0A42769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5B3-6F92-4781-9607-1BB06EAE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1C3-A975-49B5-8DB8-A8E62CA6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66E-B449-4EDF-A48C-7363101E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E0C-6013-4CE0-BB10-BC27B3C5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3A8-5B40-4C69-90A9-109C3DD1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DF2-8BC5-43F2-99D8-2196704F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4FD-43FE-4A1A-833A-11BE9CDF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8EC-83D5-4353-8112-F8DD5DB3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CD9-2DC1-4309-8BC7-74FE4163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823-A9DB-4CD7-A4A6-9FAA224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0EF-E523-41CE-B335-8A567F3C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F23C-70BE-41CD-AD11-60A2A2FBBC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mailto:oldtoyd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СТАРОТОЙДЕН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ТАРОТОЙДЕНСКОЕ СЕЛЬСКОЕ ПОСЕЛЕНИЕ, 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решению Совета народных депутатов Старотойденского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28.12.2022 г. № 1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Старотойденского сельского поселения на 2023 год и на плановый период 2024 и 2025 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28880" y="928800"/>
          <a:ext cx="5194080" cy="255744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749520"/>
                <a:gridCol w="62208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9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2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10" descr=""/>
          <p:cNvPicPr/>
          <p:nvPr/>
        </p:nvPicPr>
        <p:blipFill>
          <a:blip r:embed="rId2"/>
          <a:stretch/>
        </p:blipFill>
        <p:spPr>
          <a:xfrm>
            <a:off x="1706400" y="3780000"/>
            <a:ext cx="6370920" cy="251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10" descr=""/>
          <p:cNvPicPr/>
          <p:nvPr/>
        </p:nvPicPr>
        <p:blipFill>
          <a:blip r:embed="rId3"/>
          <a:stretch/>
        </p:blipFill>
        <p:spPr>
          <a:xfrm>
            <a:off x="920880" y="4280040"/>
            <a:ext cx="7626240" cy="224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Старотойден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12716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______________________________________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Глава администрации Старотойденского сельского по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ннинского муниципального района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РАСПОПОВ ВЛАДИМИР АЛЕКСЕ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График работы с 8-00 до 17-0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ерерыв с 12-00 до 13-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Адрес:  Воронежская область, Аннинский район, село Старая Тойда, ул. Октябрьская, дом 13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Телефоны (факс) 84734641257(847346412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Электронная почта: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ldtoyd.anna@govvrn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643200"/>
            <a:ext cx="700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Бюджета Старотойденского сельского поселения на 2023 год и на плановый период 2024 и 2025 годов сформирован в программном формате. Всего на данный момент в Старотойденском сель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572000"/>
            <a:ext cx="70722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Старотойденского сельского поселения и управление финансами в поселении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»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Старотойден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Старотойден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Диаграмма 7" descr=""/>
          <p:cNvPicPr/>
          <p:nvPr/>
        </p:nvPicPr>
        <p:blipFill>
          <a:blip r:embed="rId2"/>
          <a:stretch/>
        </p:blipFill>
        <p:spPr>
          <a:xfrm>
            <a:off x="420840" y="3067200"/>
            <a:ext cx="8302320" cy="3436920"/>
          </a:xfrm>
          <a:prstGeom prst="rect">
            <a:avLst/>
          </a:prstGeom>
          <a:ln w="0">
            <a:noFill/>
          </a:ln>
        </p:spPr>
      </p:pic>
      <p:sp>
        <p:nvSpPr>
          <p:cNvPr id="112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934920"/>
          <a:ext cx="8215200" cy="127980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 70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20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4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1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 0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20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3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 84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 6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6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571680" y="3571920"/>
          <a:ext cx="7929360" cy="3071880"/>
        </p:xfrm>
        <a:graphic>
          <a:graphicData uri="http://schemas.openxmlformats.org/drawingml/2006/table">
            <a:tbl>
              <a:tblPr/>
              <a:tblGrid>
                <a:gridCol w="4071600"/>
                <a:gridCol w="1928880"/>
                <a:gridCol w="1928880"/>
              </a:tblGrid>
              <a:tr h="171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3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09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57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6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45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6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7" descr=""/>
          <p:cNvPicPr/>
          <p:nvPr/>
        </p:nvPicPr>
        <p:blipFill>
          <a:blip r:embed="rId2"/>
          <a:stretch/>
        </p:blipFill>
        <p:spPr>
          <a:xfrm>
            <a:off x="353880" y="706320"/>
            <a:ext cx="8618760" cy="597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stToyda</cp:lastModifiedBy>
  <dcterms:modified xsi:type="dcterms:W3CDTF">2024-06-25T06:38:31Z</dcterms:modified>
  <cp:revision>62</cp:revision>
  <dc:subject/>
  <dc:title>Слайд 1</dc:title>
</cp:coreProperties>
</file>